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1154-C990-48CF-967C-6C1BC557E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4DE1-5C4B-487A-90E0-62ECABA0F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1C2E-A035-4144-96C3-F5D1B72A5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19DC-EB3E-41BC-BDD4-0D6B27C79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A175-9E24-4ADB-B7BC-D0B1F3C12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1CD17-A7F9-4165-9374-A6366F4D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825B4-A3D6-4196-9760-A3D5C700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32A84-E5F2-4EEF-881B-E0F4A370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EA828-D089-4392-9275-351D3E4F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2B871-9002-4F33-A76B-1B28867D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4FB1-63EC-48B5-B24E-2D407CE709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AD49D-1475-4652-9BE7-4C159488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0983B-C34B-4CE9-AA0A-AD8EF020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63A94-E1E2-4F20-B67B-737E203D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83722-9A66-43EE-A6AA-6D9B3AF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A3231-09F1-4DAF-BCE0-619075C8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1EC8A-B341-476E-8B7C-7B7FE7D9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218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64948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93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218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64948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8E648-378C-4FF4-AB22-B59AF1D9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7E2D-8860-452D-AC6B-59F2F52DB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6AC1-735E-4A7A-8070-79C488AAE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1522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28A8-FEE5-4148-8A1E-8F41B7C44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DB7D-DB9D-445C-A5D8-892E4686A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7652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952F-1C3E-450D-B6A2-0D2BC5CE1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7652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84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1627-9F68-4D06-8815-016C54809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1201-70A9-47FB-9311-B1588E0DB19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853920" algn="ctr">
              <a:lnSpc>
                <a:spcPct val="95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195560" algn="ctr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4" marL="1477800" algn="ctr">
              <a:lnSpc>
                <a:spcPct val="95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5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6" marL="1477800">
              <a:spcBef>
                <a:spcPts val="45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8490-149D-44A3-BD6C-A8FFF8FA7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6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hyperlink" Target="http://www.nyhistory.org/abrodheim/" TargetMode="External"/><Relationship Id="rId4" Type="http://schemas.openxmlformats.org/officeDocument/2006/relationships/hyperlink" Target="http://www.nyhistory.org/abrodheim/" TargetMode="External"/><Relationship Id="rId5" Type="http://schemas.openxmlformats.org/officeDocument/2006/relationships/hyperlink" Target="http://www.nyhistory.org/abrodheim/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yshistoryday.org/abrodheim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yhistory.org/abrodheim/" TargetMode="External"/><Relationship Id="rId2" Type="http://schemas.openxmlformats.org/officeDocument/2006/relationships/hyperlink" Target="http://www.nyhistory.org/abrodhei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3276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Enrich Social Studies Exit Project with Technolog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verview of 8th Grade Social Studies Exit Projec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00240" y="54864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iLearn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66"/>
                </a:solidFill>
                <a:latin typeface="Arial"/>
              </a:rPr>
              <a:t>Social Studies Session 1 of 8</a:t>
            </a:r>
            <a:endParaRPr b="1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8" name="Shape 12289" descr=""/>
          <p:cNvPicPr/>
          <p:nvPr/>
        </p:nvPicPr>
        <p:blipFill>
          <a:blip r:embed="rId1"/>
          <a:stretch/>
        </p:blipFill>
        <p:spPr>
          <a:xfrm>
            <a:off x="2189160" y="1600200"/>
            <a:ext cx="476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teps to Creating an Oral Presentat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340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Know your subject matter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Develop a them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pare your scrip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Rehearse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resen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1" name="Shape 15361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91464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15367"/>
          <p:cNvSpPr/>
          <p:nvPr/>
        </p:nvSpPr>
        <p:spPr>
          <a:xfrm>
            <a:off x="3809880" y="1752480"/>
            <a:ext cx="1143000" cy="7632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3" name="Straight Connector 15366"/>
          <p:cNvSpPr/>
          <p:nvPr/>
        </p:nvSpPr>
        <p:spPr>
          <a:xfrm>
            <a:off x="2895480" y="1905120"/>
            <a:ext cx="2057400" cy="3808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4" name="Straight Connector 15365"/>
          <p:cNvSpPr/>
          <p:nvPr/>
        </p:nvSpPr>
        <p:spPr>
          <a:xfrm>
            <a:off x="3048120" y="2209680"/>
            <a:ext cx="1904760" cy="60984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Straight Connector 15364"/>
          <p:cNvSpPr/>
          <p:nvPr/>
        </p:nvSpPr>
        <p:spPr>
          <a:xfrm>
            <a:off x="2209680" y="2552760"/>
            <a:ext cx="2895840" cy="175248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6" name="Straight Connector 15363"/>
          <p:cNvSpPr/>
          <p:nvPr/>
        </p:nvSpPr>
        <p:spPr>
          <a:xfrm>
            <a:off x="2057400" y="2895480"/>
            <a:ext cx="2971800" cy="1828800"/>
          </a:xfrm>
          <a:prstGeom prst="line">
            <a:avLst/>
          </a:prstGeom>
          <a:ln w="9360">
            <a:solidFill>
              <a:srgbClr val="66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TextBox 13314"/>
          <p:cNvSpPr/>
          <p:nvPr/>
        </p:nvSpPr>
        <p:spPr>
          <a:xfrm>
            <a:off x="152280" y="3733920"/>
            <a:ext cx="3124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e oral component can take many shapes. It can be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poem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song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- a report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Oral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0" name="Shape 14337" descr=""/>
          <p:cNvPicPr/>
          <p:nvPr/>
        </p:nvPicPr>
        <p:blipFill>
          <a:blip r:embed="rId1"/>
          <a:stretch/>
        </p:blipFill>
        <p:spPr>
          <a:xfrm>
            <a:off x="2403360" y="1371600"/>
            <a:ext cx="4337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ample Exit Project Timeline </a:t>
            </a:r>
            <a:br>
              <a:rPr sz="3000"/>
            </a:b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(template on page 15 of the Exit Project Guide)</a:t>
            </a: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3" name="Rectangle 3" descr=""/>
          <p:cNvPicPr/>
          <p:nvPr/>
        </p:nvPicPr>
        <p:blipFill>
          <a:blip r:embed="rId1"/>
          <a:stretch/>
        </p:blipFill>
        <p:spPr>
          <a:xfrm>
            <a:off x="1685880" y="1492200"/>
            <a:ext cx="57722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etting Started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Now that we have looked at all the Exit Project rubrics, you will use the written and graphic components rubrics to assess a sample Exit Project: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lnSpc>
                <a:spcPct val="95000"/>
              </a:lnSpc>
              <a:spcBef>
                <a:spcPts val="451"/>
              </a:spcBef>
              <a:buClr>
                <a:srgbClr val="80b34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3"/>
              </a:rPr>
              <a:t>nyshistoryday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400" spc="-1" strike="noStrike" u="sng">
                <a:solidFill>
                  <a:srgbClr val="6699cc"/>
                </a:solidFill>
                <a:uFillTx/>
                <a:latin typeface="Arial"/>
                <a:hlinkClick r:id="rId5"/>
              </a:rPr>
              <a:t>org/abrodheim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(courtesy of NY State History Day Project)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You will also adapt rubrics to reflect the integration of technology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ork Tim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ork with your partner, use the rubrics to assess the written and graphic components of the sample Exit Project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“Bankruptcy Reform: Past and Present”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(http://www.nyshistoryday.org/abrodheim)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onsider how you might adapt the rubrics to reflect the infusion of technology in your classroom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650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Record ideas for integrating technology into the rubric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We will share our assessments and discuss ways that we can use the rubrics for our classrooms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What did you do?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Shar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cusing Questions</a:t>
            </a:r>
            <a:br>
              <a:rPr sz="3000"/>
            </a:b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What are the components of the Grade 8 Exit Project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How can we use the “Grade 8 Exit Project Instructional Guide” to guide our students through the Exit Project process?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How does this work address the questions that began the session?</a:t>
            </a:r>
            <a:endParaRPr b="1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nswers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or more information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Office of Instructional Technology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oittc@schools.nyc.go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</a:rPr>
              <a:t>v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1"/>
              </a:rPr>
              <a:t>www</a:t>
            </a:r>
            <a:r>
              <a:rPr b="0" lang="en-US" sz="2200" spc="-1" strike="noStrike" u="sng">
                <a:solidFill>
                  <a:srgbClr val="6699cc"/>
                </a:solidFill>
                <a:uFillTx/>
                <a:latin typeface="Arial"/>
                <a:hlinkClick r:id="rId2"/>
              </a:rPr>
              <a:t>.nyc.gov/schools</a:t>
            </a: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4114800"/>
            <a:ext cx="8077320" cy="1371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Framing The Session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384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In this session we will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Examine the three components 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Outline the subsequent seven sessions in which we explore how to integrate technology into the Grade 8 Social Studies Exit Project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1800"/>
              </a:spcBef>
              <a:buClr>
                <a:srgbClr val="66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reate a sample project timeline using Microsoft Word.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ing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n Exit Project is a culminating project in which students explore a topic in social studies in depth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Students research the topic and prepare a written, oral, and graphic presentation.</a:t>
            </a:r>
            <a:endParaRPr b="0" lang="en-US" sz="2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Guided Practic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3 Components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Written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Graphic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Ora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As we review each component, consider the various ways that technology can support each of these components.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3962160"/>
            <a:ext cx="3492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Microsoft Word typed report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66"/>
                </a:solidFill>
                <a:latin typeface="Arial"/>
              </a:rPr>
              <a:t>PowerPoint slideshow notes.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1636560"/>
            <a:ext cx="2054160" cy="1792440"/>
          </a:xfrm>
          <a:prstGeom prst="rect">
            <a:avLst/>
          </a:prstGeom>
          <a:ln w="0">
            <a:noFill/>
          </a:ln>
        </p:spPr>
      </p:pic>
      <p:pic>
        <p:nvPicPr>
          <p:cNvPr id="158" name="Shape 9217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733920" cy="411480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7"/>
          <p:cNvCxnSpPr/>
          <p:nvPr/>
        </p:nvCxnSpPr>
        <p:spPr>
          <a:xfrm>
            <a:off x="3809880" y="3124080"/>
            <a:ext cx="1524960" cy="76680"/>
          </a:xfrm>
          <a:prstGeom prst="straightConnector1">
            <a:avLst/>
          </a:prstGeom>
          <a:ln cap="rnd" w="64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Written  Component Rubric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2" name="Shape 10241" descr=""/>
          <p:cNvPicPr/>
          <p:nvPr/>
        </p:nvPicPr>
        <p:blipFill>
          <a:blip r:embed="rId1"/>
          <a:stretch/>
        </p:blipFill>
        <p:spPr>
          <a:xfrm>
            <a:off x="1941480" y="1371600"/>
            <a:ext cx="5261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he Graphic Componen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3840" y="1447560"/>
            <a:ext cx="379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achers can guide students in their choice of a graphic component. 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echnology Infusion: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PowerPoin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Digital documentary using Windows MovieMaker or iMovie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lnSpc>
                <a:spcPct val="95000"/>
              </a:lnSpc>
              <a:spcBef>
                <a:spcPts val="499"/>
              </a:spcBef>
              <a:buClr>
                <a:srgbClr val="6699cc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ri-fold with printed images and typed writing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65" name="Shape 11266" descr=""/>
          <p:cNvPicPr/>
          <p:nvPr/>
        </p:nvPicPr>
        <p:blipFill>
          <a:blip r:embed="rId1"/>
          <a:stretch/>
        </p:blipFill>
        <p:spPr>
          <a:xfrm>
            <a:off x="4572000" y="1604880"/>
            <a:ext cx="38098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YCDOE</cp:lastModifiedBy>
  <dcterms:modified xsi:type="dcterms:W3CDTF">2008-12-08T11:38:39Z</dcterms:modified>
  <cp:revision>6</cp:revision>
  <dc:subject/>
  <dc:title>Workshop Title</dc:title>
</cp:coreProperties>
</file>