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6EE7-E051-4834-852D-3A9FD75DF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72EC-A0B9-4F5C-A60C-B542B58DE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D721-7D51-4FD1-829C-E64180A42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E369-C505-4475-B4ED-04B994CB9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9679-FF1F-4272-A917-2D322D9B5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5CB0F-399A-4C39-A06E-0D515D56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004D3-52FD-4FDF-AA6F-1C8953EA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36BDF-1A17-42B1-B529-B87CB3BF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C96D4-B97D-4041-A2A9-3EF0DE09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0CD1C-FB45-4C95-8F6E-2C14644F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54E3-0ABA-4692-83C2-C7004ED84F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B7FD9-A9DF-4C6B-8746-0C5C7D7C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23E86-D4C6-481E-8D82-F0F30D3F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F01BA-E1F1-4EE5-BCBE-658BB07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66D23-3A1A-44CC-A70A-F76F797F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A2A4F-06D6-4DC9-8651-EF59A3AF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714FE-599A-482A-B6F1-6693FCCF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6E4E4-918C-427E-BB09-05433D42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DF7E-724F-4F82-8C19-E979D5529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B1AF-DD69-46D2-9EC6-10D12B62D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FEC0-DBE1-496A-8246-C32315398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7F04-43C5-4D2E-8725-CFF3B9005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251D-74FE-4533-A7DB-F4231D317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330E-62DD-43DB-8717-CEF8A5F12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C2B4-CF9E-42AE-9597-43A15584455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A9BC-7E0F-4165-94E1-EEC6FE450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hyperlink" Target="http://www.nyhistory.org/abrodheim/" TargetMode="External"/><Relationship Id="rId4" Type="http://schemas.openxmlformats.org/officeDocument/2006/relationships/hyperlink" Target="http://www.nyhistory.org/abrodheim/" TargetMode="External"/><Relationship Id="rId5" Type="http://schemas.openxmlformats.org/officeDocument/2006/relationships/hyperlink" Target="http://www.nyhistory.org/abrodheim/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yhistory.org/abrodheim/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verview of 8th Grade Social Studies Exit Projec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1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8" name="Shape 12289" descr=""/>
          <p:cNvPicPr/>
          <p:nvPr/>
        </p:nvPicPr>
        <p:blipFill>
          <a:blip r:embed="rId1"/>
          <a:stretch/>
        </p:blipFill>
        <p:spPr>
          <a:xfrm>
            <a:off x="2189160" y="1600200"/>
            <a:ext cx="476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teps to Creating an Oral Presentat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340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Know your subject matter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Develop a them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pare your scrip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Rehears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sen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1" name="Shape 15361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91464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5367"/>
          <p:cNvSpPr/>
          <p:nvPr/>
        </p:nvSpPr>
        <p:spPr>
          <a:xfrm>
            <a:off x="3809880" y="1752480"/>
            <a:ext cx="1143000" cy="76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3" name="Straight Connector 15366"/>
          <p:cNvSpPr/>
          <p:nvPr/>
        </p:nvSpPr>
        <p:spPr>
          <a:xfrm>
            <a:off x="2895480" y="1905120"/>
            <a:ext cx="2057400" cy="3808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4" name="Straight Connector 15365"/>
          <p:cNvSpPr/>
          <p:nvPr/>
        </p:nvSpPr>
        <p:spPr>
          <a:xfrm>
            <a:off x="3048120" y="2209680"/>
            <a:ext cx="1904760" cy="60984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Straight Connector 15364"/>
          <p:cNvSpPr/>
          <p:nvPr/>
        </p:nvSpPr>
        <p:spPr>
          <a:xfrm>
            <a:off x="2209680" y="2552760"/>
            <a:ext cx="2895840" cy="17524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6" name="Straight Connector 15363"/>
          <p:cNvSpPr/>
          <p:nvPr/>
        </p:nvSpPr>
        <p:spPr>
          <a:xfrm>
            <a:off x="2057400" y="2895480"/>
            <a:ext cx="2971800" cy="182880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TextBox 13314"/>
          <p:cNvSpPr/>
          <p:nvPr/>
        </p:nvSpPr>
        <p:spPr>
          <a:xfrm>
            <a:off x="152280" y="3733920"/>
            <a:ext cx="3124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e oral component can take many shapes. It can be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poem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song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report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Oral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0" name="Shape 14337" descr=""/>
          <p:cNvPicPr/>
          <p:nvPr/>
        </p:nvPicPr>
        <p:blipFill>
          <a:blip r:embed="rId1"/>
          <a:stretch/>
        </p:blipFill>
        <p:spPr>
          <a:xfrm>
            <a:off x="2403360" y="1371600"/>
            <a:ext cx="433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ample Exit Project Timeline </a:t>
            </a:r>
            <a:br>
              <a:rPr sz="3000"/>
            </a:b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(template on page 15 of the Exit Project Guide)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3" name="Rectangle 3" descr=""/>
          <p:cNvPicPr/>
          <p:nvPr/>
        </p:nvPicPr>
        <p:blipFill>
          <a:blip r:embed="rId1"/>
          <a:stretch/>
        </p:blipFill>
        <p:spPr>
          <a:xfrm>
            <a:off x="1685880" y="1492200"/>
            <a:ext cx="57722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Now that we have looked at all the Exit Project rubrics, you will use the written and graphic components rubrics to assess a sample Exit Project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3"/>
              </a:rPr>
              <a:t>nyshistoryday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5"/>
              </a:rPr>
              <a:t>org/abrodheim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(courtesy of NY State History Day Project)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You will also adapt rubrics to reflect the integration of technology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 with your partner, use the rubrics to assess the written and graphic components of the sample Exit Project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http://www.nyshistoryday.org/abrodheim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onsider how you might adapt the rubrics to reflect the infusion of technology in your classroom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Record ideas for integrating technology into the rubric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We will share our assessments and discuss ways that we can use the rubrics for our classrooms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What are the components of the Grade 8 Exit Project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How can we use the “Grade 8 Exit Project Instructional Guide” to guide our students through the Exit Project process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nswers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v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www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.nyc.gov/schools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In this session we will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Examine the three components 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Outline the subsequent seven sessions in which we explore how to integrate technology in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reate a sample project timeline using Microsoft Word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n Exit Project is a culminating project in which students explore a topic in social studies in depth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Students research the topic and prepare a written, oral, and graphic presentation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3 Components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ritte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Graph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Ora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s we review each component, consider the various ways that technology can support each of these component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3962160"/>
            <a:ext cx="3492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Microsoft Word typed repor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PowerPoint slideshow notes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1636560"/>
            <a:ext cx="2054160" cy="1792440"/>
          </a:xfrm>
          <a:prstGeom prst="rect">
            <a:avLst/>
          </a:prstGeom>
          <a:ln w="0">
            <a:noFill/>
          </a:ln>
        </p:spPr>
      </p:pic>
      <p:pic>
        <p:nvPicPr>
          <p:cNvPr id="158" name="Shape 9217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73392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7"/>
          <p:cNvCxnSpPr/>
          <p:nvPr/>
        </p:nvCxnSpPr>
        <p:spPr>
          <a:xfrm>
            <a:off x="3809880" y="3124080"/>
            <a:ext cx="1524960" cy="76680"/>
          </a:xfrm>
          <a:prstGeom prst="straightConnector1">
            <a:avLst/>
          </a:prstGeom>
          <a:ln cap="rnd" w="64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2" name="Shape 10241" descr=""/>
          <p:cNvPicPr/>
          <p:nvPr/>
        </p:nvPicPr>
        <p:blipFill>
          <a:blip r:embed="rId1"/>
          <a:stretch/>
        </p:blipFill>
        <p:spPr>
          <a:xfrm>
            <a:off x="1941480" y="1371600"/>
            <a:ext cx="5261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79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achers can guide students in their choice of a graphic component.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gital documentary using Windows MovieMaker or iMovie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ri-fold with printed images and typed writing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5" name="Shape 11266" descr=""/>
          <p:cNvPicPr/>
          <p:nvPr/>
        </p:nvPicPr>
        <p:blipFill>
          <a:blip r:embed="rId1"/>
          <a:stretch/>
        </p:blipFill>
        <p:spPr>
          <a:xfrm>
            <a:off x="4572000" y="1604880"/>
            <a:ext cx="38098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08T11:38:39Z</dcterms:modified>
  <cp:revision>6</cp:revision>
  <dc:subject/>
  <dc:title>Workshop Title</dc:title>
</cp:coreProperties>
</file>