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A9A59-9A9C-4F40-9FF2-CCBD3E24AB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EA884-67B6-49FD-95ED-A3BCD4BDEB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6A1D9-CC23-44BC-9017-77B3F3E1FE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21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4948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3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21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4948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4BA06-4645-4719-80FB-84D7461A70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93840" y="1522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5B527-3A61-4C32-9927-2ED5B84F7E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21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4948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93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21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4948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28C8E0-8991-46A4-A7EB-849679087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DEF55F-7F35-4E88-A11F-BF003500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34FCF-BFB0-4B3E-B875-9C0C8E54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AA1B17-EFE1-40E6-B623-CB4C7542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322EF-27DB-439F-A8C6-6E7B4AB4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8E4BC-F0FC-4FF0-B997-92658187DEA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93840" y="1522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AEEEF-8A8C-4747-B767-DF94D034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200C5A-26AE-4134-ACDA-6D83F0C3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338841-E367-469F-BBE1-A33814B5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61A5A-F745-463C-BF26-D3FEB1F1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88B13-1358-48E0-BA2F-29502A66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08D0B7-64BC-47C9-BA45-2F4B7CDBD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021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64948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93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021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64948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364027-B3C5-43DE-AE0E-008A50634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DB14F-EEF7-4BC6-93F3-B68A410F50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A99B6-0ABA-4FE3-8A32-3820172FBF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3840" y="1522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8D9BB-A912-4F4D-A838-9A28DC86AD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697DD-2C00-4770-8936-F4459EF816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BB5DA-CEF3-4D1A-BB55-19F3A3ABA7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125B3-C016-4784-8EB6-01FA8E33B1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362240" y="6477120"/>
            <a:ext cx="7781760" cy="380880"/>
          </a:xfrm>
          <a:prstGeom prst="rect">
            <a:avLst/>
          </a:prstGeom>
          <a:solidFill>
            <a:srgbClr val="80b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958680" y="6477120"/>
            <a:ext cx="408240" cy="380880"/>
          </a:xfrm>
          <a:prstGeom prst="rtTriangle">
            <a:avLst/>
          </a:prstGeom>
          <a:solidFill>
            <a:srgbClr val="80b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spcBef>
                <a:spcPts val="1650"/>
              </a:spcBef>
              <a:buClr>
                <a:srgbClr val="6699cc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2" marL="1081080" indent="-227160">
              <a:spcBef>
                <a:spcPts val="165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3" marL="1363680" indent="-168120">
              <a:spcBef>
                <a:spcPts val="1650"/>
              </a:spcBef>
              <a:buClr>
                <a:srgbClr val="80b34d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4" marL="1701720" indent="-223920">
              <a:spcBef>
                <a:spcPts val="1650"/>
              </a:spcBef>
              <a:buClr>
                <a:srgbClr val="33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5" marL="1701720" indent="-223920">
              <a:spcBef>
                <a:spcPts val="1650"/>
              </a:spcBef>
              <a:buClr>
                <a:srgbClr val="6666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6" marL="1701720" indent="-223920">
              <a:spcBef>
                <a:spcPts val="1650"/>
              </a:spcBef>
              <a:buClr>
                <a:srgbClr val="6666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76040" y="6035760"/>
            <a:ext cx="878040" cy="630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8040600" y="652896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941E-4080-481B-BC84-748342439075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3331" t="1231" r="34181" b="0"/>
          <a:stretch/>
        </p:blipFill>
        <p:spPr>
          <a:xfrm>
            <a:off x="0" y="0"/>
            <a:ext cx="5715000" cy="612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66760" y="5699160"/>
            <a:ext cx="1295280" cy="93024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1828440" y="6477120"/>
            <a:ext cx="7315560" cy="380880"/>
            <a:chOff x="1828440" y="6477120"/>
            <a:chExt cx="7315560" cy="380880"/>
          </a:xfrm>
        </p:grpSpPr>
        <p:sp>
          <p:nvSpPr>
            <p:cNvPr id="47" name=""/>
            <p:cNvSpPr/>
            <p:nvPr/>
          </p:nvSpPr>
          <p:spPr>
            <a:xfrm>
              <a:off x="2232000" y="6477120"/>
              <a:ext cx="6912000" cy="380880"/>
            </a:xfrm>
            <a:prstGeom prst="rect">
              <a:avLst/>
            </a:prstGeom>
            <a:solidFill>
              <a:srgbClr val="80b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1828080" y="6477120"/>
              <a:ext cx="407880" cy="380880"/>
            </a:xfrm>
            <a:prstGeom prst="rtTriangle">
              <a:avLst/>
            </a:prstGeom>
            <a:solidFill>
              <a:srgbClr val="80b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0" y="5181480"/>
            <a:ext cx="5791320" cy="30492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2895480" y="2590560"/>
            <a:ext cx="5486400" cy="30492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86400" y="304920"/>
            <a:ext cx="3657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2" marL="853920" algn="ctr">
              <a:lnSpc>
                <a:spcPct val="95000"/>
              </a:lnSpc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3" marL="1195560" algn="ctr">
              <a:lnSpc>
                <a:spcPct val="95000"/>
              </a:lnSpc>
              <a:spcBef>
                <a:spcPts val="451"/>
              </a:spcBef>
              <a:buClr>
                <a:srgbClr val="80b34d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lvl="4" marL="1477800" algn="ctr">
              <a:lnSpc>
                <a:spcPct val="95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lvl="5" marL="1477800">
              <a:spcBef>
                <a:spcPts val="45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lvl="6" marL="1477800">
              <a:spcBef>
                <a:spcPts val="45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1717-32B5-4FDB-920C-4B9314BD8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rcRect l="3331" t="1231" r="34181" b="0"/>
          <a:stretch/>
        </p:blipFill>
        <p:spPr>
          <a:xfrm>
            <a:off x="0" y="0"/>
            <a:ext cx="5715000" cy="61246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66760" y="5699160"/>
            <a:ext cx="1295280" cy="93024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1828440" y="6477120"/>
            <a:ext cx="7315560" cy="380880"/>
            <a:chOff x="1828440" y="6477120"/>
            <a:chExt cx="7315560" cy="380880"/>
          </a:xfrm>
        </p:grpSpPr>
        <p:sp>
          <p:nvSpPr>
            <p:cNvPr id="96" name=""/>
            <p:cNvSpPr/>
            <p:nvPr/>
          </p:nvSpPr>
          <p:spPr>
            <a:xfrm>
              <a:off x="2232000" y="6477120"/>
              <a:ext cx="69120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1828080" y="6477120"/>
              <a:ext cx="407880" cy="380880"/>
            </a:xfrm>
            <a:prstGeom prst="rtTriangl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0" y="5181480"/>
            <a:ext cx="5791320" cy="3049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2895480" y="2590560"/>
            <a:ext cx="5486400" cy="3049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1295280" y="434304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nyshistoryday.org/abrodheim" TargetMode="External"/><Relationship Id="rId2" Type="http://schemas.openxmlformats.org/officeDocument/2006/relationships/hyperlink" Target="http://www.nyhistory.org/abrodheim/" TargetMode="External"/><Relationship Id="rId3" Type="http://schemas.openxmlformats.org/officeDocument/2006/relationships/hyperlink" Target="http://www.nyhistory.org/abrodheim/" TargetMode="External"/><Relationship Id="rId4" Type="http://schemas.openxmlformats.org/officeDocument/2006/relationships/hyperlink" Target="http://www.nyhistory.org/abrodheim/" TargetMode="External"/><Relationship Id="rId5" Type="http://schemas.openxmlformats.org/officeDocument/2006/relationships/hyperlink" Target="http://www.nyhistory.org/abrodheim/" TargetMode="External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nyshistoryday.org/abrodheim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nyhistory.org/abrodheim/" TargetMode="External"/><Relationship Id="rId2" Type="http://schemas.openxmlformats.org/officeDocument/2006/relationships/hyperlink" Target="http://www.nyhistory.org/abrodheim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867280" y="304560"/>
            <a:ext cx="3276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Enrich Social Studies Exit Project with Technology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verview of 8th Grade Social Studies Exit Projec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800240" y="5486400"/>
            <a:ext cx="4343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66"/>
                </a:solidFill>
                <a:latin typeface="Arial"/>
              </a:rPr>
              <a:t>iLearn</a:t>
            </a: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66"/>
                </a:solidFill>
                <a:latin typeface="Arial"/>
              </a:rPr>
              <a:t>Social Studies Session 1 of 8</a:t>
            </a: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The Graphic Component Rubric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68" name="Shape 12289" descr=""/>
          <p:cNvPicPr/>
          <p:nvPr/>
        </p:nvPicPr>
        <p:blipFill>
          <a:blip r:embed="rId1"/>
          <a:stretch/>
        </p:blipFill>
        <p:spPr>
          <a:xfrm>
            <a:off x="2189160" y="1600200"/>
            <a:ext cx="47656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Steps to Creating an Oral Presentation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3840" y="1447560"/>
            <a:ext cx="3340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buClr>
                <a:srgbClr val="66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Know your subject matter.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marL="419040" indent="-419040">
              <a:buClr>
                <a:srgbClr val="66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Develop a theme.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marL="419040" indent="-419040">
              <a:buClr>
                <a:srgbClr val="66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Prepare your script.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marL="419040" indent="-419040">
              <a:buClr>
                <a:srgbClr val="66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Rehearse.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marL="419040" indent="-419040">
              <a:buClr>
                <a:srgbClr val="66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Present.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71" name="Shape 15361" descr=""/>
          <p:cNvPicPr/>
          <p:nvPr/>
        </p:nvPicPr>
        <p:blipFill>
          <a:blip r:embed="rId1"/>
          <a:stretch/>
        </p:blipFill>
        <p:spPr>
          <a:xfrm>
            <a:off x="4800600" y="1143000"/>
            <a:ext cx="3914640" cy="4343400"/>
          </a:xfrm>
          <a:prstGeom prst="rect">
            <a:avLst/>
          </a:prstGeom>
          <a:ln w="0">
            <a:noFill/>
          </a:ln>
        </p:spPr>
      </p:pic>
      <p:sp>
        <p:nvSpPr>
          <p:cNvPr id="172" name="Straight Connector 15367"/>
          <p:cNvSpPr/>
          <p:nvPr/>
        </p:nvSpPr>
        <p:spPr>
          <a:xfrm>
            <a:off x="3809880" y="1752480"/>
            <a:ext cx="1143000" cy="76320"/>
          </a:xfrm>
          <a:prstGeom prst="line">
            <a:avLst/>
          </a:prstGeom>
          <a:ln w="9360">
            <a:solidFill>
              <a:srgbClr val="66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3" name="Straight Connector 15366"/>
          <p:cNvSpPr/>
          <p:nvPr/>
        </p:nvSpPr>
        <p:spPr>
          <a:xfrm>
            <a:off x="2895480" y="1905120"/>
            <a:ext cx="2057400" cy="380880"/>
          </a:xfrm>
          <a:prstGeom prst="line">
            <a:avLst/>
          </a:prstGeom>
          <a:ln w="9360">
            <a:solidFill>
              <a:srgbClr val="66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4" name="Straight Connector 15365"/>
          <p:cNvSpPr/>
          <p:nvPr/>
        </p:nvSpPr>
        <p:spPr>
          <a:xfrm>
            <a:off x="3048120" y="2209680"/>
            <a:ext cx="1904760" cy="609840"/>
          </a:xfrm>
          <a:prstGeom prst="line">
            <a:avLst/>
          </a:prstGeom>
          <a:ln w="9360">
            <a:solidFill>
              <a:srgbClr val="66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5" name="Straight Connector 15364"/>
          <p:cNvSpPr/>
          <p:nvPr/>
        </p:nvSpPr>
        <p:spPr>
          <a:xfrm>
            <a:off x="2209680" y="2552760"/>
            <a:ext cx="2895840" cy="1752480"/>
          </a:xfrm>
          <a:prstGeom prst="line">
            <a:avLst/>
          </a:prstGeom>
          <a:ln w="9360">
            <a:solidFill>
              <a:srgbClr val="66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6" name="Straight Connector 15363"/>
          <p:cNvSpPr/>
          <p:nvPr/>
        </p:nvSpPr>
        <p:spPr>
          <a:xfrm>
            <a:off x="2057400" y="2895480"/>
            <a:ext cx="2971800" cy="1828800"/>
          </a:xfrm>
          <a:prstGeom prst="line">
            <a:avLst/>
          </a:prstGeom>
          <a:ln w="9360">
            <a:solidFill>
              <a:srgbClr val="66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7" name="TextBox 13314"/>
          <p:cNvSpPr/>
          <p:nvPr/>
        </p:nvSpPr>
        <p:spPr>
          <a:xfrm>
            <a:off x="152280" y="3733920"/>
            <a:ext cx="31244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The oral component can take many shapes. It can be: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- a poem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- a song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- a report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The Oral Component Rubric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80" name="Shape 14337" descr=""/>
          <p:cNvPicPr/>
          <p:nvPr/>
        </p:nvPicPr>
        <p:blipFill>
          <a:blip r:embed="rId1"/>
          <a:stretch/>
        </p:blipFill>
        <p:spPr>
          <a:xfrm>
            <a:off x="2403360" y="1371600"/>
            <a:ext cx="4337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Sample Exit Project Timeline </a:t>
            </a:r>
            <a:br>
              <a:rPr sz="3000"/>
            </a:b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(template on page 15 of the Exit Project Guide)</a:t>
            </a:r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83" name="Rectangle 3" descr=""/>
          <p:cNvPicPr/>
          <p:nvPr/>
        </p:nvPicPr>
        <p:blipFill>
          <a:blip r:embed="rId1"/>
          <a:stretch/>
        </p:blipFill>
        <p:spPr>
          <a:xfrm>
            <a:off x="1685880" y="1492200"/>
            <a:ext cx="577224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4114800"/>
            <a:ext cx="8077320" cy="1371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3840" y="151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Getting Started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65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Now that we have looked at all the Exit Project rubrics, you will use the written and graphic components rubrics to assess a sample Exit Project: 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- </a:t>
            </a:r>
            <a:r>
              <a:rPr b="0" lang="en-US" sz="2200" spc="-1" strike="noStrike" u="sng">
                <a:solidFill>
                  <a:srgbClr val="6699cc"/>
                </a:solidFill>
                <a:uFillTx/>
                <a:latin typeface="Arial"/>
                <a:hlinkClick r:id="rId1"/>
              </a:rPr>
              <a:t>“Bankruptcy Reform: Past and Present”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3" marL="1363680" indent="-168120">
              <a:lnSpc>
                <a:spcPct val="95000"/>
              </a:lnSpc>
              <a:spcBef>
                <a:spcPts val="451"/>
              </a:spcBef>
              <a:buClr>
                <a:srgbClr val="80b34d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(</a:t>
            </a:r>
            <a:r>
              <a:rPr b="0" lang="en-US" sz="1400" spc="-1" strike="noStrike" u="sng">
                <a:solidFill>
                  <a:srgbClr val="6699cc"/>
                </a:solidFill>
                <a:uFillTx/>
                <a:latin typeface="Arial"/>
                <a:hlinkClick r:id="rId2"/>
              </a:rPr>
              <a:t>http://www.</a:t>
            </a:r>
            <a:r>
              <a:rPr b="0" lang="en-US" sz="1400" spc="-1" strike="noStrike" u="sng">
                <a:solidFill>
                  <a:srgbClr val="6699cc"/>
                </a:solidFill>
                <a:uFillTx/>
                <a:latin typeface="Arial"/>
                <a:hlinkClick r:id="rId3"/>
              </a:rPr>
              <a:t>nyshistoryday</a:t>
            </a:r>
            <a:r>
              <a:rPr b="0" lang="en-US" sz="1400" spc="-1" strike="noStrike" u="sng">
                <a:solidFill>
                  <a:srgbClr val="6699cc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1400" spc="-1" strike="noStrike" u="sng">
                <a:solidFill>
                  <a:srgbClr val="6699cc"/>
                </a:solidFill>
                <a:uFillTx/>
                <a:latin typeface="Arial"/>
                <a:hlinkClick r:id="rId5"/>
              </a:rPr>
              <a:t>org/abrodheim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(courtesy of NY State History Day Project)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>
              <a:spcBef>
                <a:spcPts val="165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You will also adapt rubrics to reflect the integration of technology.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3840" y="151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ork Tim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65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Work with your partner, use the rubrics to assess the written and graphic components of the sample Exit Project: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- </a:t>
            </a:r>
            <a:r>
              <a:rPr b="0" lang="en-US" sz="2200" spc="-1" strike="noStrike" u="sng">
                <a:solidFill>
                  <a:srgbClr val="6699cc"/>
                </a:solidFill>
                <a:uFillTx/>
                <a:latin typeface="Arial"/>
                <a:hlinkClick r:id="rId1"/>
              </a:rPr>
              <a:t>“Bankruptcy Reform: Past and Present”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3" marL="13636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(http://www.nyshistoryday.org/abrodheim)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>
              <a:spcBef>
                <a:spcPts val="165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Consider how you might adapt the rubrics to reflect the infusion of technology in your classroom.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>
              <a:spcBef>
                <a:spcPts val="165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Record ideas for integrating technology into the rubrics.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4114800"/>
            <a:ext cx="8077320" cy="1371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762120" y="1904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We will share our assessments and discuss ways that we can use the rubrics for our classrooms.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Shar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What did you do?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Shar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Focusing Questions</a:t>
            </a:r>
            <a:br>
              <a:rPr sz="3000"/>
            </a:b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What are the components of the Grade 8 Exit Project?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How can we use the “Grade 8 Exit Project Instructional Guide” to guide our students through the Exit Project process?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66"/>
                </a:solidFill>
                <a:latin typeface="Arial"/>
              </a:rPr>
              <a:t>How does this work address the questions that began the session?</a:t>
            </a:r>
            <a:endParaRPr b="1" lang="en-US" sz="2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Answers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For more information</a:t>
            </a: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Office of Instructional Technology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6699cc"/>
                </a:solidFill>
                <a:uFillTx/>
                <a:latin typeface="Arial"/>
              </a:rPr>
              <a:t>oittc@schools.nyc.go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6699cc"/>
                </a:solidFill>
                <a:uFillTx/>
                <a:latin typeface="Arial"/>
              </a:rPr>
              <a:t>v</a:t>
            </a:r>
            <a:r>
              <a:rPr b="0" lang="en-US" sz="2200" spc="-1" strike="noStrike" u="sng">
                <a:solidFill>
                  <a:srgbClr val="6699cc"/>
                </a:solidFill>
                <a:uFillTx/>
                <a:latin typeface="Arial"/>
                <a:hlinkClick r:id="rId1"/>
              </a:rPr>
              <a:t>www</a:t>
            </a:r>
            <a:r>
              <a:rPr b="0" lang="en-US" sz="2200" spc="-1" strike="noStrike" u="sng">
                <a:solidFill>
                  <a:srgbClr val="6699cc"/>
                </a:solidFill>
                <a:uFillTx/>
                <a:latin typeface="Arial"/>
                <a:hlinkClick r:id="rId2"/>
              </a:rPr>
              <a:t>.nyc.gov/schools</a:t>
            </a: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4114800"/>
            <a:ext cx="8077320" cy="1371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3840" y="151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Framing The Session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3840" y="16002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In this session we will: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1800"/>
              </a:spcBef>
              <a:buClr>
                <a:srgbClr val="66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Examine the three components to the Grade 8 Social Studies Exit Project.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1800"/>
              </a:spcBef>
              <a:buClr>
                <a:srgbClr val="66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Outline the subsequent seven sessions in which we explore how to integrate technology into the Grade 8 Social Studies Exit Project.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1800"/>
              </a:spcBef>
              <a:buClr>
                <a:srgbClr val="66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Create a sample project timeline using Microsoft Word.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3840" y="151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Teaching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An Exit Project is a culminating project in which students explore a topic in social studies in depth.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Students research the topic and prepare a written, oral, and graphic presentation.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3840" y="151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Guided Practic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3 Components: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Written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Graphic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Ora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As we review each component, consider the various ways that technology can support each of these components.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The Written Componen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3962160"/>
            <a:ext cx="34923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66"/>
                </a:solidFill>
                <a:latin typeface="Arial"/>
              </a:rPr>
              <a:t>Technology Infusion: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6666"/>
                </a:solidFill>
                <a:latin typeface="Arial"/>
              </a:rPr>
              <a:t>Microsoft Word typed report.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6666"/>
                </a:solidFill>
                <a:latin typeface="Arial"/>
              </a:rPr>
              <a:t>PowerPoint slideshow notes.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057400" y="1636560"/>
            <a:ext cx="2054160" cy="1792440"/>
          </a:xfrm>
          <a:prstGeom prst="rect">
            <a:avLst/>
          </a:prstGeom>
          <a:ln w="0">
            <a:noFill/>
          </a:ln>
        </p:spPr>
      </p:pic>
      <p:pic>
        <p:nvPicPr>
          <p:cNvPr id="158" name="Shape 9217" descr=""/>
          <p:cNvPicPr/>
          <p:nvPr/>
        </p:nvPicPr>
        <p:blipFill>
          <a:blip r:embed="rId2"/>
          <a:stretch/>
        </p:blipFill>
        <p:spPr>
          <a:xfrm>
            <a:off x="4343400" y="1600200"/>
            <a:ext cx="3733920" cy="4114800"/>
          </a:xfrm>
          <a:prstGeom prst="rect">
            <a:avLst/>
          </a:prstGeom>
          <a:ln w="0">
            <a:noFill/>
          </a:ln>
        </p:spPr>
      </p:pic>
      <p:cxnSp>
        <p:nvCxnSpPr>
          <p:cNvPr id="159" name="Straight Arrow Connector 7"/>
          <p:cNvCxnSpPr/>
          <p:nvPr/>
        </p:nvCxnSpPr>
        <p:spPr>
          <a:xfrm>
            <a:off x="3809880" y="3124080"/>
            <a:ext cx="1524960" cy="76680"/>
          </a:xfrm>
          <a:prstGeom prst="straightConnector1">
            <a:avLst/>
          </a:prstGeom>
          <a:ln cap="rnd" w="64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The Written  Component Rubric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62" name="Shape 10241" descr=""/>
          <p:cNvPicPr/>
          <p:nvPr/>
        </p:nvPicPr>
        <p:blipFill>
          <a:blip r:embed="rId1"/>
          <a:stretch/>
        </p:blipFill>
        <p:spPr>
          <a:xfrm>
            <a:off x="1941480" y="1371600"/>
            <a:ext cx="52610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The Graphic Componen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3840" y="1447560"/>
            <a:ext cx="3797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Teachers can guide students in their choice of a graphic component. 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Technology Infusion: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PowerPoint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Digital documentary using Windows MovieMaker or iMovie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Tri-fold with printed images and typed writing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65" name="Shape 11266" descr=""/>
          <p:cNvPicPr/>
          <p:nvPr/>
        </p:nvPicPr>
        <p:blipFill>
          <a:blip r:embed="rId1"/>
          <a:stretch/>
        </p:blipFill>
        <p:spPr>
          <a:xfrm>
            <a:off x="4572000" y="1604880"/>
            <a:ext cx="380988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YCDOE</cp:lastModifiedBy>
  <dcterms:modified xsi:type="dcterms:W3CDTF">2008-12-08T11:38:39Z</dcterms:modified>
  <cp:revision>6</cp:revision>
  <dc:subject/>
  <dc:title>Workshop Title</dc:title>
</cp:coreProperties>
</file>