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10EE-5F90-4781-A49D-C727BE3F7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5621-3B04-44FD-BECF-BCEA6D6B2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767C-8066-428A-94A5-9CCE0137E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DADC-4084-49D4-9048-336162658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C9C2-CF09-4BA0-AA4C-8F21B09C5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6DC62-4707-4201-8F10-263CCBC4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3D281-AEC1-4789-BC38-FC6154BC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DF66E-21AC-4BE3-BE25-0FDBCFE2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8D29C-4D29-4E46-9C67-5EE80F72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DD0FF-BAE9-438C-9F72-ABAAA58D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9A0F-98D3-4096-B9B3-8AA9BABAF6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C908B-E171-4408-A8AB-F0AB1200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DB06C-FCC5-4036-8C75-263D3E1D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6E8FE-7D1D-4748-BB58-2886B45C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561DA-54E7-49C0-AA36-55921D7E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C02A6-BD2F-4BFC-960C-0A51BD96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DD670-2E59-48C9-BA5F-8710C9E5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CB1EC-FCC6-4341-8D75-C6BBC81D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46B1-B7E6-42B8-8021-5B7C6EE11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93C6-159C-4CD9-9BAA-0BF7BD5DB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2D55-B0FA-4C72-AAB2-9CD94FDF8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06A9-90D3-4019-9890-9BD9101DC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C2B5-8652-40E7-8E63-74E3533FD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4640-69DD-45CE-A470-908A435B4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E063-4C85-4482-8B51-57369D0251C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853920" algn="ctr">
              <a:lnSpc>
                <a:spcPct val="95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3" marL="1195560" algn="ctr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4" marL="1477800" algn="ctr">
              <a:lnSpc>
                <a:spcPct val="95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5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6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3D2B-CE1E-4DBE-9540-5D4733D10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6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67280" y="304560"/>
            <a:ext cx="3276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nrich Social Studies Exit Project with Technology</a:t>
            </a:r>
            <a:r>
              <a:rPr b="0" lang="en-US" sz="3000" spc="-1" strike="noStrike">
                <a:solidFill>
                  <a:srgbClr val="6666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666666"/>
                </a:solidFill>
                <a:latin typeface="Verdana"/>
              </a:rPr>
              <a:t>	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Selecting a Topic and Research Question Using Inspiration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800240" y="54864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iLearn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Social Studies Session 2 of 8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etting Started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 the next 30 minutes: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velop a research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Brainstorm your question.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Use Inspiration to organize the information on the activity sheet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Create a Harvard Outline from the graphic organizer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ork Tim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orking with a partner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velop a research question on the topic of “The Individual in History.”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Brainstorm your research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Use Inspiration to organize the sub-topics and supporting information into the graphic organizer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Convert the Graphic Organizer for your Research Question into a Harvard Outline forma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hare sample Inspiration graphic organizers and Harvard Outline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can Inspiration be used to enhance the research component of an Exit Project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did you do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How does this work address the questions that began the session?</a:t>
            </a:r>
            <a:endParaRPr b="1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skills did you use in organizing the information for the research question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did the process help to stimulate critical thinking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did Inspiration help to organize research for the creation of an Exit Project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r more informa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Office of Instructional Technology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oittc@schools.nyc.gov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ww.nyc.gov/schools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cusing Questions</a:t>
            </a:r>
            <a:br>
              <a:rPr sz="3000"/>
            </a:b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How can we use Inspiration to brainstorm a research question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How can we use Inspiration to organize research for the Exit Project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raming The Sess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384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 this session, we will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iscuss the process involved in using Inspiration to brainstorm a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monstrate the use of Inspiration to organize research informa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monstrate how to transform a graphic organizer into a Harvard Outline using Inspira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eaching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spiration can be used to create a brainstorm Web-based on a research question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e information on the Web can be presented as either a graphic organizer or as a Harvard Outline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e Inspiration Web is a tool to guide the research process and provide an outline for the written component of the Exit Project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raphic Organizer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880" y="1219320"/>
            <a:ext cx="7771680" cy="3199320"/>
            <a:chOff x="380880" y="1219320"/>
            <a:chExt cx="7771680" cy="3199320"/>
          </a:xfrm>
        </p:grpSpPr>
        <p:cxnSp>
          <p:nvCxnSpPr>
            <p:cNvPr id="155" name="_s104462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306400" y="1458000"/>
              <a:ext cx="640440" cy="2720880"/>
            </a:xfrm>
            <a:prstGeom prst="bentConnector3">
              <a:avLst>
                <a:gd name="adj1" fmla="val 13892"/>
              </a:avLst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158" name="_s104461"/>
            <p:cNvCxnSpPr>
              <a:stCxn id="159" idx="0"/>
              <a:endCxn id="157" idx="2"/>
            </p:cNvCxnSpPr>
            <p:nvPr/>
          </p:nvCxnSpPr>
          <p:spPr>
            <a:xfrm flipV="1">
              <a:off x="4266720" y="2498400"/>
              <a:ext cx="2880" cy="64044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160" name="_s104460"/>
            <p:cNvCxnSpPr>
              <a:stCxn id="161" idx="0"/>
              <a:endCxn id="157" idx="2"/>
            </p:cNvCxnSpPr>
            <p:nvPr/>
          </p:nvCxnSpPr>
          <p:spPr>
            <a:xfrm flipH="1" flipV="1" rot="5400000">
              <a:off x="2586600" y="1458360"/>
              <a:ext cx="640440" cy="2720880"/>
            </a:xfrm>
            <a:prstGeom prst="bentConnector3">
              <a:avLst>
                <a:gd name="adj1" fmla="val 13892"/>
              </a:avLst>
            </a:prstGeom>
            <a:ln w="28440">
              <a:solidFill>
                <a:srgbClr val="666666"/>
              </a:solidFill>
              <a:miter/>
            </a:ln>
          </p:spPr>
        </p:cxnSp>
        <p:sp>
          <p:nvSpPr>
            <p:cNvPr id="157" name="_s104456"/>
            <p:cNvSpPr/>
            <p:nvPr/>
          </p:nvSpPr>
          <p:spPr>
            <a:xfrm>
              <a:off x="3101040" y="121932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61" name="_s104457"/>
            <p:cNvSpPr/>
            <p:nvPr/>
          </p:nvSpPr>
          <p:spPr>
            <a:xfrm>
              <a:off x="38088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9" name="_s104458"/>
            <p:cNvSpPr/>
            <p:nvPr/>
          </p:nvSpPr>
          <p:spPr>
            <a:xfrm>
              <a:off x="310104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6" name="_s104459"/>
            <p:cNvSpPr/>
            <p:nvPr/>
          </p:nvSpPr>
          <p:spPr>
            <a:xfrm>
              <a:off x="582120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429000" y="1600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TOPIC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837720" y="4572000"/>
            <a:ext cx="30492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4572000"/>
            <a:ext cx="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4572000"/>
            <a:ext cx="30492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01000" cy="4876560"/>
          </a:xfrm>
          <a:prstGeom prst="rect">
            <a:avLst/>
          </a:prstGeom>
          <a:noFill/>
          <a:ln w="28440">
            <a:solidFill>
              <a:srgbClr val="666666"/>
            </a:solidFill>
            <a:miter/>
          </a:ln>
        </p:spPr>
        <p:txBody>
          <a:bodyPr lIns="104040" rIns="104040" tIns="60840" bIns="6084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5334120"/>
            <a:ext cx="2666880" cy="368280"/>
          </a:xfrm>
          <a:prstGeom prst="rect">
            <a:avLst/>
          </a:prstGeom>
          <a:noFill/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upporting Detai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Harvard Outlin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.  Topic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-38124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pporting detai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19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I.  Topic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-38124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pporting detai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uided Practic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 will model the use of Inspiration to organize information around the research question “How did African-Americans win the struggle for the right to vote?”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 will then demonstrate how to use Inspiration to create both a graphic organizer and a Harvard Outline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8-12-21T12:32:34Z</dcterms:modified>
  <cp:revision>8</cp:revision>
  <dc:subject/>
  <dc:title>Workshop Title</dc:title>
</cp:coreProperties>
</file>