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41D8-BACB-46B0-AF8F-6110621D9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127F-7E59-4357-8F5F-4CF982239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D18F-8835-40B4-8F2B-D954699DD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A5DC-2A30-49D7-B846-88ECAD30E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1272-DCD8-4527-A270-72DB20756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0E0E3-7E3A-4D90-8868-674B8069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C9D7B-5C12-42A7-9F29-371EC66E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F13A7-80F8-4E6D-8AE8-CC3E860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47E4C-9F06-46F8-AA29-646BBC2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70F67-09F9-4EBE-9AFD-D6B4862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DE09-E03D-4305-ACC2-4EECB9E299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90F10-4C7A-43A2-8317-20D0B2A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41C5A-EBB5-4137-AD83-BA4E7B6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59CE3-6AA3-4B29-A7FB-CD7100E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7A0CD-37FE-4B11-A400-DB3454C9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D80C-26AE-4A0D-A396-EB268F06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C5CFD-3B10-477F-8953-838EFEA4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E750E-6B98-4FA5-AEC0-ACE978A1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186-1418-46CE-96B3-5C6D42B1C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57EB-383E-4CDB-81C2-692D1BBF8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862B-49AE-4641-B987-6E8B1487D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AF1C-7EBB-4B9E-87A9-51FBCACFD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12CC-B10D-4546-80CB-519AD82CC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9563-789A-4BE8-BDF5-0AC75EE9D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C745-7CC8-45C5-B3A8-6D1B12EF833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EE2-9FB6-4B31-8F0B-B3339535B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666666"/>
                </a:solidFill>
                <a:latin typeface="Verdana"/>
              </a:rPr>
              <a:t>	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Selecting a Topic and Research Question Using Inspiration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2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e next 30 minutes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question.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information on the activity sheet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reate a Harvard Outline from the graphic organizer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ing with a partner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velop a research question on the topic of “The Individual in History.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Brainstorm your research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Use Inspiration to organize the sub-topics and supporting information into the graphic organiz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onvert the Graphic Organizer for your Research Question into a Harvard Outline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hare sample Inspiration graphic organizers and Harvard Outline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can Inspiration be used to enhance the research component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skills did you use in organizing the information for the research question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the process help to stimulate critical thinking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How did Inspiration help to organize research for the creation of an Exit Project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v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ww.nyc.gov/schools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brainstorm a research question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How can we use Inspiration to organize research for the Exit Project?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 this session, we will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scuss the process involved in using Inspiration to brainstorm a ques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the use of Inspiration to organize research inform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emonstrate how to transform a graphic organizer into a Harvard Outline using Inspiration.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nspiration can be used to create a brainstorm Web-based on a research question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formation on the Web can be presented as either a graphic organizer or as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e Inspiration Web is a tool to guide the research process and provide an outline for the written component of the Exit Project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raphic Organizer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1219320"/>
            <a:ext cx="7771680" cy="3199320"/>
            <a:chOff x="380880" y="1219320"/>
            <a:chExt cx="7771680" cy="3199320"/>
          </a:xfrm>
        </p:grpSpPr>
        <p:cxnSp>
          <p:nvCxnSpPr>
            <p:cNvPr id="155" name="_s104462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306400" y="145800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58" name="_s104461"/>
            <p:cNvCxnSpPr>
              <a:stCxn id="159" idx="0"/>
              <a:endCxn id="157" idx="2"/>
            </p:cNvCxnSpPr>
            <p:nvPr/>
          </p:nvCxnSpPr>
          <p:spPr>
            <a:xfrm flipV="1">
              <a:off x="4266720" y="2498400"/>
              <a:ext cx="2880" cy="640440"/>
            </a:xfrm>
            <a:prstGeom prst="bentConnector2">
              <a:avLst/>
            </a:prstGeom>
            <a:ln w="28440">
              <a:solidFill>
                <a:srgbClr val="666666"/>
              </a:solidFill>
              <a:miter/>
            </a:ln>
          </p:spPr>
        </p:cxnSp>
        <p:cxnSp>
          <p:nvCxnSpPr>
            <p:cNvPr id="160" name="_s10446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586600" y="1458360"/>
              <a:ext cx="640440" cy="2720880"/>
            </a:xfrm>
            <a:prstGeom prst="bentConnector3">
              <a:avLst>
                <a:gd name="adj1" fmla="val 13892"/>
              </a:avLst>
            </a:prstGeom>
            <a:ln w="28440">
              <a:solidFill>
                <a:srgbClr val="666666"/>
              </a:solidFill>
              <a:miter/>
            </a:ln>
          </p:spPr>
        </p:cxnSp>
        <p:sp>
          <p:nvSpPr>
            <p:cNvPr id="157" name="_s104456"/>
            <p:cNvSpPr/>
            <p:nvPr/>
          </p:nvSpPr>
          <p:spPr>
            <a:xfrm>
              <a:off x="3101040" y="121932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61" name="_s104457"/>
            <p:cNvSpPr/>
            <p:nvPr/>
          </p:nvSpPr>
          <p:spPr>
            <a:xfrm>
              <a:off x="38088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9" name="_s104458"/>
            <p:cNvSpPr/>
            <p:nvPr/>
          </p:nvSpPr>
          <p:spPr>
            <a:xfrm>
              <a:off x="310104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6" name="_s104459"/>
            <p:cNvSpPr/>
            <p:nvPr/>
          </p:nvSpPr>
          <p:spPr>
            <a:xfrm>
              <a:off x="5821200" y="3138840"/>
              <a:ext cx="2331360" cy="12798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9000" y="1600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TOPIC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200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3772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572000"/>
            <a:ext cx="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572000"/>
            <a:ext cx="304920" cy="609480"/>
          </a:xfrm>
          <a:prstGeom prst="line">
            <a:avLst/>
          </a:prstGeom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001000" cy="487656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txBody>
          <a:bodyPr lIns="104040" rIns="104040" tIns="60840" bIns="6084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334120"/>
            <a:ext cx="2666880" cy="368280"/>
          </a:xfrm>
          <a:prstGeom prst="rect">
            <a:avLst/>
          </a:prstGeom>
          <a:noFill/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upporting Detai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Harvard Outlin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19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I.  Topic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838080" indent="-38088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b-top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235160" indent="-381240">
              <a:lnSpc>
                <a:spcPct val="95000"/>
              </a:lnSpc>
              <a:spcBef>
                <a:spcPts val="499"/>
              </a:spcBef>
              <a:buClr>
                <a:srgbClr val="6666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upporting detai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model the use of Inspiration to organize information around the research question “How did African-Americans win the struggle for the right to vote?”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I will then demonstrate how to use Inspiration to create both a graphic organizer and a Harvard Outline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21T12:32:34Z</dcterms:modified>
  <cp:revision>8</cp:revision>
  <dc:subject/>
  <dc:title>Workshop Title</dc:title>
</cp:coreProperties>
</file>