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7DCA-70F9-4271-8108-50E8F951C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0B1E-995D-4056-BB2D-D0AFB691B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A04A-2CDA-4BDA-9E6F-0B2B0802D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8FD7-B81B-444D-82F3-FCD28513F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4621-060A-4192-BCF9-A94A96C94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261EA-B0DE-4C79-8231-2B853A8F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EFEF5-D4F2-4D31-8053-FB68C2B8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33FE0-A6E4-49D2-A440-6FFD7793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55E05-0EC7-49EB-A80B-2918A6B0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1FD66-FC0C-47A2-86A8-868A1716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11C9-5BB6-4954-BA23-101638FCF9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75BC2-667D-4039-999C-3FDF97CF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EAF4C-C72A-401E-B12B-179EB92E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9ECE3-254D-4EC7-AEB9-AB01C5FA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E7DA1-DE63-47AF-A3F1-6830589B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F126F-2584-4D44-B6FF-EC9FF95C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BEE22-5D69-4E6F-98D9-EB94E45D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BE3E2-DDAF-4210-8721-3B04A183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9AC6-483C-477B-97FB-BCB04F7C0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D468-2F6F-42EE-961A-7743FE974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226E-BCDC-47B5-94A3-B92844219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E1B9-19E3-43F6-A82A-03D1A44A5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9961-B98D-4D88-9EAF-51B6B9171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26E6-A778-4618-A9F2-761A77140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90D5-49FD-4CF4-A77B-ECF385C28299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2E84-B3F7-4A67-9628-FE9066B6A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electing a Topic and Research Question Using Inspiration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2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e next 30 minutes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question.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information on the activity sheet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reate a Harvard Outline from the graphic organizer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ing with a partner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 on the topic of “The Individual in History.”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sub-topics and supporting information into the graphic organizer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onvert the Graphic Organizer for your Research Question into a Harvard Outline forma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hare sample Inspiration graphic organizers and Harvard Outline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can Inspiration be used to enhance the research component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skills did you use in organizing the information for the research question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the process help to stimulate critical thinking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Inspiration help to organize research for the creation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v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ww.nyc.gov/schools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brainstorm a research question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organize research for the Exit Project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is session, we will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scuss the process involved in using Inspiration to brainstorm a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the use of Inspiration to organize research inform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how to transform a graphic organizer into a Harvard Outline using Inspir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spiration can be used to create a brainstorm Web-based on a research question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formation on the Web can be presented as either a graphic organizer or as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spiration Web is a tool to guide the research process and provide an outline for the written component of the Exit Project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raphic Organizer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1219320"/>
            <a:ext cx="7771680" cy="3199320"/>
            <a:chOff x="380880" y="1219320"/>
            <a:chExt cx="7771680" cy="3199320"/>
          </a:xfrm>
        </p:grpSpPr>
        <p:cxnSp>
          <p:nvCxnSpPr>
            <p:cNvPr id="155" name="_s104462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306400" y="145800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58" name="_s104461"/>
            <p:cNvCxnSpPr>
              <a:stCxn id="159" idx="0"/>
              <a:endCxn id="157" idx="2"/>
            </p:cNvCxnSpPr>
            <p:nvPr/>
          </p:nvCxnSpPr>
          <p:spPr>
            <a:xfrm flipV="1">
              <a:off x="4266720" y="2498400"/>
              <a:ext cx="2880" cy="64044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60" name="_s10446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586600" y="145836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sp>
          <p:nvSpPr>
            <p:cNvPr id="157" name="_s104456"/>
            <p:cNvSpPr/>
            <p:nvPr/>
          </p:nvSpPr>
          <p:spPr>
            <a:xfrm>
              <a:off x="3101040" y="121932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61" name="_s104457"/>
            <p:cNvSpPr/>
            <p:nvPr/>
          </p:nvSpPr>
          <p:spPr>
            <a:xfrm>
              <a:off x="38088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9" name="_s104458"/>
            <p:cNvSpPr/>
            <p:nvPr/>
          </p:nvSpPr>
          <p:spPr>
            <a:xfrm>
              <a:off x="310104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6" name="_s104459"/>
            <p:cNvSpPr/>
            <p:nvPr/>
          </p:nvSpPr>
          <p:spPr>
            <a:xfrm>
              <a:off x="582120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429000" y="1600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TOPIC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3772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572000"/>
            <a:ext cx="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487656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txBody>
          <a:bodyPr lIns="104040" rIns="104040" tIns="60840" bIns="6084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334120"/>
            <a:ext cx="2666880" cy="36828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upporting Detai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Harvard Outlin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model the use of Inspiration to organize information around the research question “How did African-Americans win the struggle for the right to vote?”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then demonstrate how to use Inspiration to create both a graphic organizer and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21T12:32:34Z</dcterms:modified>
  <cp:revision>8</cp:revision>
  <dc:subject/>
  <dc:title>Workshop Title</dc:title>
</cp:coreProperties>
</file>