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DD97-5D12-4026-924F-0B2CFFCB7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33C3-EB35-4C7C-9B68-1E0C965CD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3E66-E4C2-4D98-AB78-47EA2D738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89EFE-7DCE-4BE0-A33B-4EA72D2B5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D53B-C3FD-427F-A712-6173C4074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64FA5-DCC0-40A8-8AE6-A9B3332D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E0D58-08B0-4CEC-961D-FD613FA6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B0D5E-6919-44FF-9E4F-A3FE2342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E0770-3D9C-42B1-9495-306DC83C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A45AB-7149-4C77-9CE8-C0DCD1E8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1D71-C0A5-433D-82A5-D37AEF41F1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77407-06FA-4FA5-815E-3C8C66DA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F8D6F-3359-483C-9399-4C5D60BC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42C4D-6485-45F8-9EDD-5B4E4E07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C446E-8874-4051-B1FE-40BD9DA5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BC947-8BA1-41BF-880C-DBF30AF6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D889D-F490-49EC-B384-477DAB01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BA767-2ABA-4136-9E12-F873B98B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CA64-5446-4DD4-8A5C-4FD280225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BB07-D4BF-41D2-95F6-67F2D63DA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6A05-1873-4496-B817-CF90BD7C0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47145-1277-4F7A-9FD6-3345395BB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D5C2-1A6E-4081-901F-05E794729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9C08-89B3-42C9-98CD-5D9E0F41E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62240" y="6477120"/>
            <a:ext cx="7781760" cy="380880"/>
          </a:xfrm>
          <a:prstGeom prst="rect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958680" y="6477120"/>
            <a:ext cx="408240" cy="380880"/>
          </a:xfrm>
          <a:prstGeom prst="rtTriangle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spcBef>
                <a:spcPts val="1650"/>
              </a:spcBef>
              <a:buClr>
                <a:srgbClr val="6699cc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2" marL="1081080" indent="-227160">
              <a:spcBef>
                <a:spcPts val="165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spcBef>
                <a:spcPts val="1650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4" marL="1701720" indent="-223920">
              <a:spcBef>
                <a:spcPts val="1650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5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6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6040" y="6035760"/>
            <a:ext cx="878040" cy="630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040600" y="65289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F99F-8BF7-4D9E-AE58-1E602115B993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47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86400" y="3049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853920" algn="ctr">
              <a:lnSpc>
                <a:spcPct val="95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3" marL="1195560" algn="ctr">
              <a:lnSpc>
                <a:spcPct val="95000"/>
              </a:lnSpc>
              <a:spcBef>
                <a:spcPts val="451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4" marL="1477800" algn="ctr">
              <a:lnSpc>
                <a:spcPct val="95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5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6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7772-9EE5-4AB8-890C-E36A82081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96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1295280" y="434304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67280" y="304560"/>
            <a:ext cx="3276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Enrich Social Studies Exit Project with Technology</a:t>
            </a:r>
            <a:r>
              <a:rPr b="0" lang="en-US" sz="3000" spc="-1" strike="noStrike">
                <a:solidFill>
                  <a:srgbClr val="6666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666666"/>
                </a:solidFill>
                <a:latin typeface="Verdana"/>
              </a:rPr>
              <a:t>	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Selecting a Topic and Research Question Using Inspiration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800240" y="54864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iLearn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Social Studies Session 2 of 8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etting Started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n the next 30 minutes: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velop a research ques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Brainstorm your question.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Use Inspiration to organize the information on the activity sheet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Create a Harvard Outline from the graphic organizer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ork Tim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orking with a partner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velop a research question on the topic of “The Individual in History.”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Brainstorm your research ques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Use Inspiration to organize the sub-topics and supporting information into the graphic organizer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Convert the Graphic Organizer for your Research Question into a Harvard Outline format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hare sample Inspiration graphic organizers and Harvard Outlines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How can Inspiration be used to enhance the research component of an Exit Project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hat did you do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How does this work address the questions that began the session?</a:t>
            </a:r>
            <a:endParaRPr b="1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hat skills did you use in organizing the information for the research question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How did the process help to stimulate critical thinking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How did Inspiration help to organize research for the creation of an Exit Project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r more information</a:t>
            </a: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Office of Instructional Technology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</a:rPr>
              <a:t>oittc@schools.nyc.gov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ww.nyc.gov/schools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cusing Questions</a:t>
            </a:r>
            <a:br>
              <a:rPr sz="3000"/>
            </a:b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How can we use Inspiration to brainstorm a research question?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How can we use Inspiration to organize research for the Exit Project?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raming The Session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384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n this session, we will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iscuss the process involved in using Inspiration to brainstorm a ques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monstrate the use of Inspiration to organize research informa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monstrate how to transform a graphic organizer into a Harvard Outline using Inspira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eaching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nspiration can be used to create a brainstorm Web-based on a research question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e information on the Web can be presented as either a graphic organizer or as a Harvard Outline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e Inspiration Web is a tool to guide the research process and provide an outline for the written component of the Exit Project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raphic Organizer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80880" y="1219320"/>
            <a:ext cx="7771680" cy="3199320"/>
            <a:chOff x="380880" y="1219320"/>
            <a:chExt cx="7771680" cy="3199320"/>
          </a:xfrm>
        </p:grpSpPr>
        <p:cxnSp>
          <p:nvCxnSpPr>
            <p:cNvPr id="155" name="_s104462"/>
            <p:cNvCxnSpPr>
              <a:stCxn id="156" idx="0"/>
              <a:endCxn id="157" idx="2"/>
            </p:cNvCxnSpPr>
            <p:nvPr/>
          </p:nvCxnSpPr>
          <p:spPr>
            <a:xfrm flipV="1" rot="16200000">
              <a:off x="5306400" y="1458000"/>
              <a:ext cx="640440" cy="2720880"/>
            </a:xfrm>
            <a:prstGeom prst="bentConnector3">
              <a:avLst>
                <a:gd name="adj1" fmla="val 13892"/>
              </a:avLst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158" name="_s104461"/>
            <p:cNvCxnSpPr>
              <a:stCxn id="159" idx="0"/>
              <a:endCxn id="157" idx="2"/>
            </p:cNvCxnSpPr>
            <p:nvPr/>
          </p:nvCxnSpPr>
          <p:spPr>
            <a:xfrm flipV="1">
              <a:off x="4266720" y="2498400"/>
              <a:ext cx="2880" cy="640440"/>
            </a:xfrm>
            <a:prstGeom prst="bentConnector2">
              <a:avLst/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160" name="_s104460"/>
            <p:cNvCxnSpPr>
              <a:stCxn id="161" idx="0"/>
              <a:endCxn id="157" idx="2"/>
            </p:cNvCxnSpPr>
            <p:nvPr/>
          </p:nvCxnSpPr>
          <p:spPr>
            <a:xfrm flipH="1" flipV="1" rot="5400000">
              <a:off x="2586600" y="1458360"/>
              <a:ext cx="640440" cy="2720880"/>
            </a:xfrm>
            <a:prstGeom prst="bentConnector3">
              <a:avLst>
                <a:gd name="adj1" fmla="val 13892"/>
              </a:avLst>
            </a:prstGeom>
            <a:ln w="28440">
              <a:solidFill>
                <a:srgbClr val="666666"/>
              </a:solidFill>
              <a:miter/>
            </a:ln>
          </p:spPr>
        </p:cxnSp>
        <p:sp>
          <p:nvSpPr>
            <p:cNvPr id="157" name="_s104456"/>
            <p:cNvSpPr/>
            <p:nvPr/>
          </p:nvSpPr>
          <p:spPr>
            <a:xfrm>
              <a:off x="3101040" y="121932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61" name="_s104457"/>
            <p:cNvSpPr/>
            <p:nvPr/>
          </p:nvSpPr>
          <p:spPr>
            <a:xfrm>
              <a:off x="380880" y="313884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9" name="_s104458"/>
            <p:cNvSpPr/>
            <p:nvPr/>
          </p:nvSpPr>
          <p:spPr>
            <a:xfrm>
              <a:off x="3101040" y="313884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6" name="_s104459"/>
            <p:cNvSpPr/>
            <p:nvPr/>
          </p:nvSpPr>
          <p:spPr>
            <a:xfrm>
              <a:off x="5821200" y="313884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429000" y="1600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TOPIC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200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200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3200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837720" y="4572000"/>
            <a:ext cx="304920" cy="60948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4572000"/>
            <a:ext cx="0" cy="60948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4572000"/>
            <a:ext cx="304920" cy="60948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01000" cy="4876560"/>
          </a:xfrm>
          <a:prstGeom prst="rect">
            <a:avLst/>
          </a:prstGeom>
          <a:noFill/>
          <a:ln w="28440">
            <a:solidFill>
              <a:srgbClr val="666666"/>
            </a:solidFill>
            <a:miter/>
          </a:ln>
        </p:spPr>
        <p:txBody>
          <a:bodyPr lIns="104040" rIns="104040" tIns="60840" bIns="6084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5334120"/>
            <a:ext cx="2666880" cy="368280"/>
          </a:xfrm>
          <a:prstGeom prst="rect">
            <a:avLst/>
          </a:prstGeom>
          <a:noFill/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upporting Detail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Harvard Outlin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.  Topic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1235160" indent="-38124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pporting detai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12351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419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I.  Topic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1235160" indent="-38124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pporting detai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uided Practic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 will model the use of Inspiration to organize information around the research question “How did African-Americans win the struggle for the right to vote?”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 will then demonstrate how to use Inspiration to create both a graphic organizer and a Harvard Outline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8-12-21T12:32:34Z</dcterms:modified>
  <cp:revision>8</cp:revision>
  <dc:subject/>
  <dc:title>Workshop Title</dc:title>
</cp:coreProperties>
</file>