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6946-BF58-478A-AE9B-DDBE7B288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4453-52C8-4724-BA18-9A61540CF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CB4E-219C-4696-A2C8-2D698FE8A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71C4-673A-45A0-A415-5ECEC5250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74AF-2C60-4093-9ED1-AFB3CC4FF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08614-CB94-473C-8AC2-A71DEC84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EA91B-6767-4AA0-AE2C-97DA08C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EF56F-A2E7-42D9-813F-7EE0E9E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0A430-6B6D-4500-8795-A42014D0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5CBD8-29EA-4A96-BCBB-6E6AD4A2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FABC-16FA-41F4-9A89-7F930F9AEF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FB97-8EA6-447C-9C51-70AC731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D8FB2-4E0A-41A7-AACD-6720699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8EC68-C7B1-489F-8F23-759710F5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6275C-9FBA-46FD-AFBC-BF4E99B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C920-70FC-4213-9016-C0E5A785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19CE2-5B3C-43CE-A3AF-16019A47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8D40B-4E15-4A53-8595-BDCE8E6B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B7F1-E5E2-4D3C-8EAF-766F48FFD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E55C-5A39-4987-BB45-CDE96E29F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2780-B1AE-4993-9DC8-41D376E8B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06AE-0B3A-4251-91BE-F5884C2E2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3E10-B804-43E6-B7FB-EF8282C82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F6A4-882C-4356-AC66-8B69391BC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880D-F233-4749-8179-AA9FF8626D7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FC12-1463-4932-8E03-1D56B4E28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electing a Topic and Research Question Using Inspir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2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e next 30 minutes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question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information on the activity sheet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reate a Harvard Outline from the graphic organizer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ing with a partner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 on the topic of “The Individual in History.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sub-topics and supporting information into the graphic organiz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onvert the Graphic Organizer for your Research Question into a Harvard Outline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hare sample Inspiration graphic organizers and Harvard Outline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can Inspiration be used to enhance the research component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skills did you use in organizing the information for the research question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the process help to stimulate critical thinking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Inspiration help to organize research for the creation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v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ww.nyc.gov/schools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brainstorm a research question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organize research for the Exit Project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is session, we will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scuss the process involved in using Inspiration to brainstorm a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the use of Inspiration to organize research inform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how to transform a graphic organizer into a Harvard Outline using Inspir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spiration can be used to create a brainstorm Web-based on a research question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formation on the Web can be presented as either a graphic organizer or as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spiration Web is a tool to guide the research process and provide an outline for the written component of the Exit Project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raphic Organizer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219320"/>
            <a:ext cx="7771680" cy="3199320"/>
            <a:chOff x="380880" y="1219320"/>
            <a:chExt cx="7771680" cy="3199320"/>
          </a:xfrm>
        </p:grpSpPr>
        <p:cxnSp>
          <p:nvCxnSpPr>
            <p:cNvPr id="155" name="_s10446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306400" y="145800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58" name="_s104461"/>
            <p:cNvCxnSpPr>
              <a:stCxn id="159" idx="0"/>
              <a:endCxn id="157" idx="2"/>
            </p:cNvCxnSpPr>
            <p:nvPr/>
          </p:nvCxnSpPr>
          <p:spPr>
            <a:xfrm flipV="1">
              <a:off x="4266720" y="2498400"/>
              <a:ext cx="2880" cy="64044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60" name="_s10446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586600" y="145836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157" name="_s104456"/>
            <p:cNvSpPr/>
            <p:nvPr/>
          </p:nvSpPr>
          <p:spPr>
            <a:xfrm>
              <a:off x="3101040" y="121932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61" name="_s104457"/>
            <p:cNvSpPr/>
            <p:nvPr/>
          </p:nvSpPr>
          <p:spPr>
            <a:xfrm>
              <a:off x="38088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9" name="_s104458"/>
            <p:cNvSpPr/>
            <p:nvPr/>
          </p:nvSpPr>
          <p:spPr>
            <a:xfrm>
              <a:off x="310104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6" name="_s104459"/>
            <p:cNvSpPr/>
            <p:nvPr/>
          </p:nvSpPr>
          <p:spPr>
            <a:xfrm>
              <a:off x="582120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9000" y="1600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TOPIC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772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572000"/>
            <a:ext cx="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87656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334120"/>
            <a:ext cx="2666880" cy="36828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arvard Outli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model the use of Inspiration to organize information around the research question “How did African-Americans win the struggle for the right to vote?”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then demonstrate how to use Inspiration to create both a graphic organizer and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21T12:32:34Z</dcterms:modified>
  <cp:revision>8</cp:revision>
  <dc:subject/>
  <dc:title>Workshop Title</dc:title>
</cp:coreProperties>
</file>